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0.jpeg" ContentType="image/jpeg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4.wmf" ContentType="image/x-wmf"/>
  <Override PartName="/ppt/media/image2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7FA-4478-48EE-A541-CDE13928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18D-508F-460B-95FA-1C1C90AC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13-5F14-42BB-805F-BF07DBF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8D5-06D8-404A-8D23-B52A2D0A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705-5073-4777-BC7D-E25F3647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019-1F7C-4902-8013-F41E19E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2BD-2D7B-4D2E-8869-B15CF7E8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AD3-DFAB-4953-8BAA-0E57170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70F-01DE-4D64-9D66-F95FCD7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F2C-922E-4247-B3EF-42CE8A5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ADE-E133-4CE7-ABB4-D848927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230-7B4B-48F9-B132-0BF68BC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089-29CA-4B28-B0A4-75F3D22C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rs.it/page.php?idarticolo=22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6032520"/>
            <a:ext cx="6858000" cy="33732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 – 14 Dicem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21932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743200"/>
            <a:ext cx="5181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Dall’analisi dei bisog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alla Policy scola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magine correlata"/>
          <p:cNvPicPr/>
          <p:nvPr/>
        </p:nvPicPr>
        <p:blipFill>
          <a:blip r:embed="rId6"/>
          <a:stretch/>
        </p:blipFill>
        <p:spPr>
          <a:xfrm>
            <a:off x="5638680" y="22860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8740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7543800" y="228600"/>
            <a:ext cx="13827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adott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1628640"/>
            <a:ext cx="4851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policy deve essere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validata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all’intero Istituto e dal gruppo di lav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Devono essere individuate le figure (</a:t>
            </a:r>
            <a:r>
              <a:rPr b="1" i="1" lang="en-US" sz="2800" spc="-1" strike="noStrike">
                <a:solidFill>
                  <a:srgbClr val="000000"/>
                </a:solidFill>
                <a:latin typeface="HelveticaNeueLT Std"/>
              </a:rPr>
              <a:t>i ruo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) che costituiscono 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garanti autorevo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e di controllo dell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657440"/>
            <a:ext cx="3095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404640"/>
            <a:ext cx="8534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In sede di validazione bisogna porre attenzion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Coerenza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ella policy con le leggi e le normative scolastiche generali (sicurezza, privacy, lavoro, ec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presenza d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tutti i rappresentant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elle autorità incluse nella poli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fattibilità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(ragionevole, adeguata, sostenib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Se fa riferimento a buone pratiche consolidate e se considera la lente dell’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equità e dell’inclusion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NeueLT Std"/>
              </a:rPr>
              <a:t>Quali benefit sono previsti per i responsabi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svilupp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9360"/>
            <a:ext cx="45464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LT Std"/>
              </a:rPr>
              <a:t>Attivare il processo e mettere in atto la policy in tutte le sue azioni previ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2353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62120" y="4495680"/>
            <a:ext cx="287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misura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e valut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4419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valutazione di una policy deve includ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’osservazione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Il monitoraggio delle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misurazione dei ris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valutazione dei suc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’attenzione all’attuazione dei ruoli e delle regole desig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528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14360" y="4491000"/>
            <a:ext cx="3240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ocumentare 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iffonde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i risultati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168720" cy="3014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5960" y="1160640"/>
            <a:ext cx="4546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sa comunicare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I risultati che la politica scolastica sta ottenendo (destinatari intermedi e fina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me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HelveticaNeueLT Std"/>
              </a:rPr>
              <a:t>Creando collegament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tra il benessere, esiti della didattica, le ricerche consultate, le azioni e le metodologie adottate e gli attori respons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A chi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A tutta la comunità scolastica, il territorio e gli stakeholder, i partner, i politici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19376" t="24504" r="19376" b="7032"/>
          <a:stretch/>
        </p:blipFill>
        <p:spPr>
          <a:xfrm>
            <a:off x="228600" y="1143000"/>
            <a:ext cx="519912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69696b"/>
                </a:solidFill>
                <a:latin typeface="HelveticaNeueLT Std Ext"/>
              </a:rPr>
              <a:t>Uno strumento “step by step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Immagine correlata"/>
          <p:cNvPicPr/>
          <p:nvPr/>
        </p:nvPicPr>
        <p:blipFill>
          <a:blip r:embed="rId2"/>
          <a:stretch/>
        </p:blipFill>
        <p:spPr>
          <a:xfrm>
            <a:off x="5715000" y="2362320"/>
            <a:ext cx="3105000" cy="22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21932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21251" t="12500" r="18751" b="7032"/>
          <a:stretch/>
        </p:blipFill>
        <p:spPr>
          <a:xfrm>
            <a:off x="2057400" y="2666880"/>
            <a:ext cx="3549600" cy="3810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Riferimenti per l’approfondim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066680"/>
            <a:ext cx="815328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Rete SHE Piemonte: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HelveticaNeueLT Std"/>
                <a:hlinkClick r:id="rId2"/>
              </a:rPr>
              <a:t>http://www.dors.it/page.php?idarticolo=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policy scolastica: http://www.schools-for-health.eu/uploads/files/HEPS%20Tool%20for%20schools%20HRe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scuola irlandese che adotta policy intersettoriali: https://d7educatetogether.com/index.php/school-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policy della Regione Europea dell’OMS: http://www.euro.who.int/__data/assets/pdf_file/0019/152218/E8950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Attività fisica a scuola: http://www.dors.it/documentazione/testo/201501/Dors_28marzo14_Veron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Piattaforma nazionale educazione stradale: http://www.edustrada.it/elenco-materia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Buona Pratica europea ACTIVE SCHOOL (scuola che promuove l’attività fisica): http://activeschoolflag.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85840" y="428760"/>
            <a:ext cx="862956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HelveticaNeueLT Std"/>
              </a:rPr>
              <a:t>Cos’è una policy scolastic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policy intersettoriale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è un documento prodotto in un contesto determinato (azienda, scuola, associazione, ospedale, ecc.)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per promuovere e condividere le buone pratiche al proprio inte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policy deve essere in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formato scritto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, deve essere chiara, riguardar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tutti i possibili destinatari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ed essere adeguatament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diffusa e conosciuta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La policy dovrebbe esser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in linea con le altre politiche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e procedure già presenti nell’organizz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HelveticaNeueLT Std"/>
              </a:rPr>
              <a:t>Il contenuto della policy dipenderà in gran parte dal tipo di realtà, dalle dimensioni, dalla struttura, dalle finalità e dalla cultura dell’organizzazion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policy si prefigge di definire con chiarezza parametri, regole e procedure di attuazione, modalità di gestione dei probl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Oval 7"/>
          <p:cNvSpPr/>
          <p:nvPr/>
        </p:nvSpPr>
        <p:spPr>
          <a:xfrm>
            <a:off x="304920" y="228600"/>
            <a:ext cx="8534160" cy="63244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Una policy è un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piano di azione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concordat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tra i soggetti che hanno la facoltà di intraprenderlo e sosten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Le policy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delineano la cultura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della comunità scolastica definendo valori, convinzioni, traguardi accettabili e azioni att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Influenzano il funzionamento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della scuola, cosa è insegnato e come interagiscono docenti, studenti e famigl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Le </a:t>
            </a:r>
            <a:r>
              <a:rPr b="1" lang="it-IT" sz="18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policy intersettoriali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possono focalizzarsi su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temi specifici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o essere finalizzate più ampiamente all’organizzazione 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61056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Cosa contiene una policy scolas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Una policy scolastica fornisce linee guida specifiche circa le strategie necessarie per raggiungere una mission condivisa e/o modificare dei comport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HelveticaNeueLT Std"/>
              </a:rPr>
              <a:t>Il documento di policy dovrà contener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L’analisi dei bisogni della scuola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della sua comunità che la circonda riguardo ai temi consider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escrizione de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valor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della scuola circa i te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scopi general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gli obiettivi specific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in armonia con valori educazionali generali della scuo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risorse disponibil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per lo sviluppo della policy scolas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un piano di implementazi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di monitoraggio e di valutazio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aspetti della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comunicazione e organizzazi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risultati attesi a breve e lungo termi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6250" t="12500" r="23126" b="7032"/>
          <a:stretch/>
        </p:blipFill>
        <p:spPr>
          <a:xfrm>
            <a:off x="228600" y="2438280"/>
            <a:ext cx="3355920" cy="426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9376" t="16405" r="26875" b="15626"/>
          <a:stretch/>
        </p:blipFill>
        <p:spPr>
          <a:xfrm>
            <a:off x="4192560" y="3962520"/>
            <a:ext cx="2084400" cy="259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0002" t="14065" r="27501" b="32814"/>
          <a:stretch/>
        </p:blipFill>
        <p:spPr>
          <a:xfrm>
            <a:off x="6400800" y="3809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133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Esempi di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286000"/>
            <a:ext cx="21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ttività fisica 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limen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32448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icurezza e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rcRect l="11249" t="10938" r="13749" b="3127"/>
          <a:stretch/>
        </p:blipFill>
        <p:spPr>
          <a:xfrm>
            <a:off x="4038480" y="0"/>
            <a:ext cx="2438640" cy="33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29376" t="10938" r="13749" b="4688"/>
          <a:stretch/>
        </p:blipFill>
        <p:spPr>
          <a:xfrm>
            <a:off x="6248520" y="228600"/>
            <a:ext cx="2374920" cy="281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36224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Bisogn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educativ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pe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27672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involgimento dei gen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09480" y="4572000"/>
            <a:ext cx="2664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costruzion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el gruppo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i lavoro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95272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5184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NeueLT Std"/>
              </a:rPr>
              <a:t>Chi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deve essere invitato al </a:t>
            </a:r>
            <a:r>
              <a:rPr b="1" lang="en-US" sz="2000" spc="-1" strike="noStrike">
                <a:solidFill>
                  <a:srgbClr val="000000"/>
                </a:solidFill>
                <a:latin typeface="HelveticaNeueLT Std"/>
              </a:rPr>
              <a:t>tavolo di lavoro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 che si occuperà di raggiungere gli obiettivi prioritari per l’oggetto della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Dirigente scolastico e 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Fami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Personale amministr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Personale 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Associ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Esperti dell’A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-Politic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4572000"/>
            <a:ext cx="2663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valutare l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circostanz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88108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24360" y="1628640"/>
            <a:ext cx="4762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Quali strategie ed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evidenze positiv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esistono attorno al tema oggetto della policy, che riguardano la scuola? Quali buone pratiche? Quali sono di nostro interesse? Qual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reti o scuol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lavorano già sui temi che sono stati scel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217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scrive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E’ necessario mettere per iscritto le linee guida specifiche che l’Istituto intende perseguire sul tema della policy, domandando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ove……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HI 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f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Quando…  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SA FA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Come….     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ERCH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585800"/>
            <a:ext cx="3167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260280"/>
            <a:ext cx="861048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9696b"/>
              </a:buClr>
              <a:buFont typeface="HelveticaNeueLT Std 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9696b"/>
                </a:solidFill>
                <a:latin typeface="HelveticaNeueLT Std Ext"/>
              </a:rPr>
              <a:t>La policy e le procedure individuate dovranno contenere:</a:t>
            </a:r>
            <a:br>
              <a:rPr sz="2400"/>
            </a:br>
            <a:r>
              <a:rPr b="1" lang="it-IT" sz="2400" spc="-1" strike="noStrike">
                <a:solidFill>
                  <a:srgbClr val="69696b"/>
                </a:solidFill>
                <a:latin typeface="HelveticaNeueLT St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ichiarazione dello scopo, ovvero l’obiettivo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principi e 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obiettivi specif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Le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Le azioni specif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risultati deside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Indicatori di risu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piani di realizzazione e gestione (organigramma, cronoprogram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Processo di valutazione (monitoraggio del processo, valutazione dei risultati, revisione delle priorità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8:58:08Z</dcterms:created>
  <dc:creator>vincenzo rubino</dc:creator>
  <dc:description/>
  <dc:language>en-US</dc:language>
  <cp:lastModifiedBy>vincenzorubino</cp:lastModifiedBy>
  <dcterms:modified xsi:type="dcterms:W3CDTF">2018-01-15T10:46:0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