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15.png" ContentType="image/png"/>
  <Override PartName="/ppt/media/image3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999720" y="728640"/>
            <a:ext cx="4856040" cy="36417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2600" y="9226080"/>
            <a:ext cx="297036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939470-F770-4EB6-924F-AAAA5B222195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2960" y="9226440"/>
            <a:ext cx="2970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8B923B-7D0E-419E-BBCD-2CB5EE0990CA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5CDEC9-D1F6-478C-B1D9-E139D781752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34" name="Text Box 3"/>
          <p:cNvSpPr/>
          <p:nvPr/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2960" y="9226440"/>
            <a:ext cx="2970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6C1456-3802-4C80-8E99-03AFAA1E4136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37" name="Text Box 2"/>
          <p:cNvSpPr/>
          <p:nvPr/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B60692-2549-4341-BECC-6BF3139847E1}" type="slidenum">
              <a:rPr b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2960" y="9226440"/>
            <a:ext cx="2970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1B13A5-0640-42D6-BF2C-2B575723F3E3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41" name="Text Box 2"/>
          <p:cNvSpPr/>
          <p:nvPr/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817937-225F-4F3C-AD4E-7F36BDA4042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2960" y="9226440"/>
            <a:ext cx="2970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68755B-69CB-4075-8144-104F81BAE508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45" name="Text Box 2"/>
          <p:cNvSpPr/>
          <p:nvPr/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 fase di valutazione dei percorsi (sia in quelli sull’uso critico e consapevole dei media, sia in quelli di produzione mediale) è emerso in maniera significativa come le attività abbiano permesso ai docenti formati di apprendere e implementare in classe  una didattica laboratoriale in cui ciascun allievo, indipendentemente dalla sua situazione di partenza,  ha partecipato in modo attivo imparando a collaborare con i compagni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3DF711-668F-40BF-B6E4-E076F16159D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2960" y="9226440"/>
            <a:ext cx="2970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60F609-D85A-4E0C-A82A-5DCED6C57821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2960" y="9226440"/>
            <a:ext cx="2970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4686CE-B7B3-471D-A568-9D0F55CECC8F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2960" y="9226440"/>
            <a:ext cx="2970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809593-FDC8-4129-BDAD-48F70D0A502A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F528D-F155-46B1-B9BE-221EABC7F0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78850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200" y="4097520"/>
            <a:ext cx="78850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77A41-BB31-4B83-B4E9-566324A9F4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200" y="409752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9752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24C38-895F-4744-AAF8-53E3522868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4360" y="182520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160" y="182520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200" y="409752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4360" y="409752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160" y="409752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72B27-5250-4DE6-84E2-C13A9361A1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200" y="1825200"/>
            <a:ext cx="78850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066C4-B2B2-40E9-86A1-E5956D547E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78850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FD816-157C-4F0F-B139-E90F7768BA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76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5200"/>
            <a:ext cx="38476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D5E24-5FE9-4368-B872-691F54694F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7B22B-E203-4527-A8ED-0A53D0D95F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200" y="365040"/>
            <a:ext cx="788508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FCA25-36DA-4CE7-BF91-BEABA694AF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5200"/>
            <a:ext cx="38476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200" y="409752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81AFE-0103-407F-99A9-EE74D0448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76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9752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82073-C35C-4F1D-9693-2F86EDC10A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200" y="4097520"/>
            <a:ext cx="78850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41559-415F-428A-A4A3-ABB58A118B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825200"/>
            <a:ext cx="78850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58040" y="6356160"/>
            <a:ext cx="20556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900" spc="-1" strike="noStrike">
                <a:solidFill>
                  <a:srgbClr val="898989"/>
                </a:solidFill>
                <a:latin typeface="Arial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2264C0-52FE-4457-B455-9A154FFF3E70}" type="slidenum">
              <a:rPr b="0" lang="it-IT" sz="900" spc="-1" strike="noStrike">
                <a:solidFill>
                  <a:srgbClr val="898989"/>
                </a:solidFill>
                <a:latin typeface="Arial"/>
                <a:ea typeface="Segoe UI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4.wmf"/><Relationship Id="rId6" Type="http://schemas.openxmlformats.org/officeDocument/2006/relationships/image" Target="../media/image3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874960" y="2874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519120" y="2637000"/>
            <a:ext cx="82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c000"/>
                </a:solidFill>
                <a:latin typeface="Arial"/>
                <a:ea typeface="Aria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908000" y="515772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838080" y="3209760"/>
            <a:ext cx="781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c000"/>
                </a:solidFill>
                <a:latin typeface="Arial"/>
              </a:rPr>
              <a:t>Ruolo e funzioni del Referente della Promozione della Salute, della Sicurezza Stradale e di Educazione Fisica   per  co-progettare percorsi di salut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219320" cy="762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1763640" y="201600"/>
            <a:ext cx="1785960" cy="638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3708360" y="258840"/>
            <a:ext cx="2473200" cy="549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4"/>
          <a:stretch/>
        </p:blipFill>
        <p:spPr>
          <a:xfrm>
            <a:off x="6372360" y="163440"/>
            <a:ext cx="880920" cy="67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/>
          <p:cNvPicPr/>
          <p:nvPr/>
        </p:nvPicPr>
        <p:blipFill>
          <a:blip r:embed="rId5">
            <a:alphaModFix amt="0"/>
          </a:blip>
          <a:stretch/>
        </p:blipFill>
        <p:spPr>
          <a:xfrm>
            <a:off x="7532640" y="228600"/>
            <a:ext cx="1382760" cy="5796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1"/>
          <p:cNvSpPr/>
          <p:nvPr/>
        </p:nvSpPr>
        <p:spPr>
          <a:xfrm>
            <a:off x="1467000" y="2290680"/>
            <a:ext cx="605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fc000"/>
                </a:solidFill>
                <a:latin typeface="Arial"/>
              </a:rPr>
              <a:t>LA SALUTE IN GIO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1903320" y="5924520"/>
            <a:ext cx="6272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val 1"/>
          <p:cNvSpPr/>
          <p:nvPr/>
        </p:nvSpPr>
        <p:spPr>
          <a:xfrm>
            <a:off x="4780080" y="4024440"/>
            <a:ext cx="4138560" cy="2695320"/>
          </a:xfrm>
          <a:prstGeom prst="ellipse">
            <a:avLst/>
          </a:prstGeom>
          <a:solidFill>
            <a:srgbClr val="ff99ff"/>
          </a:solidFill>
          <a:ln cap="sq"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Referente di Promozi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della Salu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2"/>
          <p:cNvSpPr/>
          <p:nvPr/>
        </p:nvSpPr>
        <p:spPr>
          <a:xfrm>
            <a:off x="65160" y="3949560"/>
            <a:ext cx="4816440" cy="2908440"/>
          </a:xfrm>
          <a:prstGeom prst="ellipse">
            <a:avLst/>
          </a:prstGeom>
          <a:solidFill>
            <a:srgbClr val="ffcc66"/>
          </a:solidFill>
          <a:ln cap="sq"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Oval 3"/>
          <p:cNvSpPr/>
          <p:nvPr/>
        </p:nvSpPr>
        <p:spPr>
          <a:xfrm>
            <a:off x="12600" y="1793880"/>
            <a:ext cx="3414960" cy="2535120"/>
          </a:xfrm>
          <a:prstGeom prst="ellipse">
            <a:avLst/>
          </a:prstGeom>
          <a:solidFill>
            <a:srgbClr val="ffffcc"/>
          </a:solidFill>
          <a:ln cap="sq"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Oval 4"/>
          <p:cNvSpPr/>
          <p:nvPr/>
        </p:nvSpPr>
        <p:spPr>
          <a:xfrm>
            <a:off x="5848200" y="1822320"/>
            <a:ext cx="3322800" cy="2721240"/>
          </a:xfrm>
          <a:prstGeom prst="ellipse">
            <a:avLst/>
          </a:prstGeom>
          <a:solidFill>
            <a:srgbClr val="99ffcc"/>
          </a:solidFill>
          <a:ln cap="sq"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2060"/>
                </a:solidFill>
                <a:latin typeface="Arial"/>
                <a:ea typeface="MS PGothic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Oval 5"/>
          <p:cNvSpPr/>
          <p:nvPr/>
        </p:nvSpPr>
        <p:spPr>
          <a:xfrm>
            <a:off x="2305080" y="14400"/>
            <a:ext cx="4591080" cy="2808000"/>
          </a:xfrm>
          <a:prstGeom prst="ellipse">
            <a:avLst/>
          </a:prstGeom>
          <a:solidFill>
            <a:srgbClr val="ccecff"/>
          </a:solidFill>
          <a:ln cap="sq"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360440" y="1781280"/>
            <a:ext cx="568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3289320" y="163440"/>
            <a:ext cx="33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576760" y="1844640"/>
            <a:ext cx="31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5951520" y="256536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488880" y="20764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2884320" y="3027240"/>
            <a:ext cx="39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cc00"/>
                </a:solidFill>
                <a:latin typeface="Times New Roman"/>
                <a:ea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3335400" y="2049480"/>
            <a:ext cx="27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Arial"/>
                <a:ea typeface="Arial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6199200" y="1913040"/>
            <a:ext cx="23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2830680" y="2197080"/>
            <a:ext cx="460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7030a0"/>
                </a:solidFill>
                <a:latin typeface="Arial"/>
                <a:ea typeface="Arial"/>
              </a:rPr>
              <a:t>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15" descr=""/>
          <p:cNvPicPr/>
          <p:nvPr/>
        </p:nvPicPr>
        <p:blipFill>
          <a:blip r:embed="rId1"/>
          <a:stretch/>
        </p:blipFill>
        <p:spPr>
          <a:xfrm>
            <a:off x="3378240" y="387360"/>
            <a:ext cx="2523960" cy="1485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6"/>
          <p:cNvSpPr/>
          <p:nvPr/>
        </p:nvSpPr>
        <p:spPr>
          <a:xfrm>
            <a:off x="27000" y="219240"/>
            <a:ext cx="267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c000"/>
                </a:solidFill>
                <a:latin typeface="Arial"/>
                <a:ea typeface="Arial"/>
              </a:rPr>
              <a:t>Sullo sfo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2793960" y="417600"/>
            <a:ext cx="17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e7e6e6"/>
                </a:solidFill>
                <a:latin typeface="Times New Roman"/>
                <a:ea typeface="Arial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18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6718320" y="2193840"/>
            <a:ext cx="1585800" cy="879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9" descr=""/>
          <p:cNvPicPr/>
          <p:nvPr/>
        </p:nvPicPr>
        <p:blipFill>
          <a:blip r:embed="rId3"/>
          <a:stretch/>
        </p:blipFill>
        <p:spPr>
          <a:xfrm>
            <a:off x="3328920" y="2095560"/>
            <a:ext cx="2795760" cy="2585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0" descr=""/>
          <p:cNvPicPr/>
          <p:nvPr/>
        </p:nvPicPr>
        <p:blipFill>
          <a:blip r:embed="rId4"/>
          <a:stretch/>
        </p:blipFill>
        <p:spPr>
          <a:xfrm>
            <a:off x="4119480" y="2262240"/>
            <a:ext cx="1260720" cy="12128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1"/>
          <p:cNvSpPr/>
          <p:nvPr/>
        </p:nvSpPr>
        <p:spPr>
          <a:xfrm>
            <a:off x="6280200" y="3187800"/>
            <a:ext cx="31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eferente di educazione   strad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22" descr=""/>
          <p:cNvPicPr/>
          <p:nvPr/>
        </p:nvPicPr>
        <p:blipFill>
          <a:blip r:embed="rId5"/>
          <a:stretch/>
        </p:blipFill>
        <p:spPr>
          <a:xfrm>
            <a:off x="369720" y="2887560"/>
            <a:ext cx="881280" cy="674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3" descr=""/>
          <p:cNvPicPr/>
          <p:nvPr/>
        </p:nvPicPr>
        <p:blipFill>
          <a:blip r:embed="rId6"/>
          <a:stretch/>
        </p:blipFill>
        <p:spPr>
          <a:xfrm>
            <a:off x="369720" y="2311560"/>
            <a:ext cx="2473560" cy="549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4" descr=""/>
          <p:cNvPicPr/>
          <p:nvPr/>
        </p:nvPicPr>
        <p:blipFill>
          <a:blip r:embed="rId7"/>
          <a:stretch/>
        </p:blipFill>
        <p:spPr>
          <a:xfrm>
            <a:off x="6257880" y="4532400"/>
            <a:ext cx="1155600" cy="12650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5"/>
          <p:cNvSpPr/>
          <p:nvPr/>
        </p:nvSpPr>
        <p:spPr>
          <a:xfrm>
            <a:off x="3146400" y="3244680"/>
            <a:ext cx="28508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it-IT" sz="2000" spc="-1" strike="noStrike">
                <a:solidFill>
                  <a:srgbClr val="002060"/>
                </a:solidFill>
                <a:latin typeface="Arial"/>
              </a:rPr>
              <a:t>Scuola com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it-IT" sz="2000" spc="-1" strike="noStrike">
                <a:solidFill>
                  <a:srgbClr val="002060"/>
                </a:solidFill>
                <a:latin typeface="Arial"/>
              </a:rPr>
              <a:t>comunità educa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it-IT" sz="2000" spc="-1" strike="noStrike">
                <a:solidFill>
                  <a:srgbClr val="002060"/>
                </a:solidFill>
                <a:latin typeface="Arial"/>
              </a:rPr>
              <a:t>inclus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26" descr=""/>
          <p:cNvPicPr/>
          <p:nvPr/>
        </p:nvPicPr>
        <p:blipFill>
          <a:blip r:embed="rId8"/>
          <a:stretch/>
        </p:blipFill>
        <p:spPr>
          <a:xfrm>
            <a:off x="809640" y="4716360"/>
            <a:ext cx="3309840" cy="1435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7"/>
          <p:cNvSpPr/>
          <p:nvPr/>
        </p:nvSpPr>
        <p:spPr>
          <a:xfrm>
            <a:off x="1303200" y="3259080"/>
            <a:ext cx="169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eferente d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ducazi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sic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69840" y="287280"/>
            <a:ext cx="911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c000"/>
                </a:solidFill>
                <a:latin typeface="Times New Roman"/>
                <a:ea typeface="Arial Unicode MS"/>
              </a:rPr>
              <a:t> </a:t>
            </a:r>
            <a:r>
              <a:rPr b="1" lang="it-IT" sz="32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Percorso di ricerca-azione: scuole, asl, territori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Group 2"/>
          <p:cNvGrpSpPr/>
          <p:nvPr/>
        </p:nvGrpSpPr>
        <p:grpSpPr>
          <a:xfrm>
            <a:off x="271440" y="1098720"/>
            <a:ext cx="6234120" cy="2395440"/>
            <a:chOff x="271440" y="1098720"/>
            <a:chExt cx="6234120" cy="2395440"/>
          </a:xfrm>
        </p:grpSpPr>
        <p:pic>
          <p:nvPicPr>
            <p:cNvPr id="90" name="Picture 3" descr=""/>
            <p:cNvPicPr/>
            <p:nvPr/>
          </p:nvPicPr>
          <p:blipFill>
            <a:blip r:embed="rId1"/>
            <a:stretch/>
          </p:blipFill>
          <p:spPr>
            <a:xfrm>
              <a:off x="271440" y="1098720"/>
              <a:ext cx="2781360" cy="19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Rectangle 4"/>
            <p:cNvSpPr/>
            <p:nvPr/>
          </p:nvSpPr>
          <p:spPr>
            <a:xfrm>
              <a:off x="1616040" y="3125880"/>
              <a:ext cx="20876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800" spc="-1" strike="noStrike">
                  <a:solidFill>
                    <a:srgbClr val="ffc000"/>
                  </a:solidFill>
                  <a:latin typeface="Times New Roman"/>
                  <a:ea typeface="Arial Unicode MS"/>
                </a:rPr>
                <a:t>         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Text Box 5"/>
            <p:cNvSpPr/>
            <p:nvPr/>
          </p:nvSpPr>
          <p:spPr>
            <a:xfrm>
              <a:off x="5097600" y="1270080"/>
              <a:ext cx="1407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Group 6"/>
          <p:cNvGrpSpPr/>
          <p:nvPr/>
        </p:nvGrpSpPr>
        <p:grpSpPr>
          <a:xfrm>
            <a:off x="179280" y="3984480"/>
            <a:ext cx="5376960" cy="2533320"/>
            <a:chOff x="179280" y="3984480"/>
            <a:chExt cx="5376960" cy="2533320"/>
          </a:xfrm>
        </p:grpSpPr>
        <p:pic>
          <p:nvPicPr>
            <p:cNvPr id="94" name="Picture 7" descr=""/>
            <p:cNvPicPr/>
            <p:nvPr/>
          </p:nvPicPr>
          <p:blipFill>
            <a:blip r:embed="rId2"/>
            <a:stretch/>
          </p:blipFill>
          <p:spPr>
            <a:xfrm>
              <a:off x="282600" y="3984480"/>
              <a:ext cx="3139920" cy="185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8"/>
            <p:cNvSpPr/>
            <p:nvPr/>
          </p:nvSpPr>
          <p:spPr>
            <a:xfrm flipV="1" rot="10800000">
              <a:off x="179280" y="5874840"/>
              <a:ext cx="39578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800" spc="-1" strike="noStrike">
                  <a:solidFill>
                    <a:srgbClr val="002060"/>
                  </a:solidFill>
                  <a:latin typeface="Times New Roman"/>
                  <a:ea typeface="Arial Unicode MS"/>
                </a:rPr>
                <a:t>Gruppi di lavoro: profili di                       salute e costruzione di policy   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9"/>
            <p:cNvSpPr/>
            <p:nvPr/>
          </p:nvSpPr>
          <p:spPr>
            <a:xfrm>
              <a:off x="3398760" y="4033440"/>
              <a:ext cx="2157480" cy="36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7" name="Picture 10" descr=""/>
          <p:cNvPicPr/>
          <p:nvPr/>
        </p:nvPicPr>
        <p:blipFill>
          <a:blip r:embed="rId3"/>
          <a:srcRect l="25626" t="3127" r="25626" b="10160"/>
          <a:stretch/>
        </p:blipFill>
        <p:spPr>
          <a:xfrm>
            <a:off x="6858000" y="1143000"/>
            <a:ext cx="2066760" cy="27576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1"/>
          <p:cNvSpPr/>
          <p:nvPr/>
        </p:nvSpPr>
        <p:spPr>
          <a:xfrm>
            <a:off x="7196040" y="2060640"/>
            <a:ext cx="21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12" descr=""/>
          <p:cNvPicPr/>
          <p:nvPr/>
        </p:nvPicPr>
        <p:blipFill>
          <a:blip r:embed="rId4"/>
          <a:stretch/>
        </p:blipFill>
        <p:spPr>
          <a:xfrm>
            <a:off x="4183200" y="4387680"/>
            <a:ext cx="3995640" cy="1054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"/>
          <p:cNvPicPr/>
          <p:nvPr/>
        </p:nvPicPr>
        <p:blipFill>
          <a:blip r:embed="rId5"/>
          <a:stretch/>
        </p:blipFill>
        <p:spPr>
          <a:xfrm>
            <a:off x="3492360" y="1143000"/>
            <a:ext cx="3124440" cy="1851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4"/>
          <p:cNvSpPr/>
          <p:nvPr/>
        </p:nvSpPr>
        <p:spPr>
          <a:xfrm>
            <a:off x="3270240" y="3135240"/>
            <a:ext cx="374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</a:t>
            </a:r>
            <a:r>
              <a:rPr b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essa a punto e condivis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dice e strumen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179280" y="3105000"/>
            <a:ext cx="66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Elementi costitutivi del profil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di salute e sperimentazio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4859280" y="5589720"/>
            <a:ext cx="260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12 -20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2916360" y="115920"/>
            <a:ext cx="5327640" cy="65739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"/>
          <p:cNvSpPr/>
          <p:nvPr/>
        </p:nvSpPr>
        <p:spPr>
          <a:xfrm>
            <a:off x="380880" y="1916280"/>
            <a:ext cx="253548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12640"/>
                <a:tab algn="l" pos="1198440"/>
                <a:tab algn="l" pos="1884240"/>
                <a:tab algn="l" pos="2570040"/>
                <a:tab algn="l" pos="3255840"/>
                <a:tab algn="l" pos="3941640"/>
                <a:tab algn="l" pos="4627440"/>
                <a:tab algn="l" pos="5313240"/>
                <a:tab algn="l" pos="5999040"/>
                <a:tab algn="l" pos="6684840"/>
                <a:tab algn="l" pos="7370640"/>
                <a:tab algn="l" pos="8056440"/>
                <a:tab algn="l" pos="8742240"/>
                <a:tab algn="l" pos="9428040"/>
                <a:tab algn="l" pos="1011384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12640"/>
                <a:tab algn="l" pos="1198440"/>
                <a:tab algn="l" pos="1884240"/>
                <a:tab algn="l" pos="2570040"/>
                <a:tab algn="l" pos="3255840"/>
                <a:tab algn="l" pos="3941640"/>
                <a:tab algn="l" pos="4627440"/>
                <a:tab algn="l" pos="5313240"/>
                <a:tab algn="l" pos="5999040"/>
                <a:tab algn="l" pos="6684840"/>
                <a:tab algn="l" pos="7370640"/>
                <a:tab algn="l" pos="8056440"/>
                <a:tab algn="l" pos="8742240"/>
                <a:tab algn="l" pos="9428040"/>
                <a:tab algn="l" pos="1011384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0" y="333360"/>
            <a:ext cx="29876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c000"/>
                </a:solidFill>
                <a:latin typeface="Arial"/>
              </a:rPr>
              <a:t>U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c000"/>
                </a:solidFill>
                <a:latin typeface="Arial"/>
              </a:rPr>
              <a:t>MODEL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romozi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ella Sal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e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609480" y="96840"/>
            <a:ext cx="7886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333080"/>
                <a:tab algn="l" pos="10782360"/>
              </a:tabLst>
            </a:pPr>
            <a:r>
              <a:rPr b="1" lang="it-IT" sz="3300" spc="-1" strike="noStrike">
                <a:solidFill>
                  <a:srgbClr val="4a6300"/>
                </a:solidFill>
                <a:latin typeface="Arial"/>
                <a:ea typeface="Arial"/>
              </a:rPr>
              <a:t>REFERENTI E FUNZIONI STRUMENTALI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2"/>
          <p:cNvSpPr/>
          <p:nvPr/>
        </p:nvSpPr>
        <p:spPr>
          <a:xfrm>
            <a:off x="4843440" y="1268280"/>
            <a:ext cx="4032360" cy="489744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4897440"/>
              <a:gd name="textAreaBottom" fmla="*/ 4700880 h 4897440"/>
            </a:gdLst>
            <a:ahLst/>
            <a:rect l="textAreaLeft" t="textAreaTop" r="textAreaRight" b="textAreaBottom"/>
            <a:pathLst>
              <a:path w="21600" h="26234">
                <a:moveTo>
                  <a:pt x="3600" y="0"/>
                </a:moveTo>
                <a:arcTo wR="3600" hR="3600" stAng="16200000" swAng="-5400000"/>
                <a:lnTo>
                  <a:pt x="0" y="22634"/>
                </a:lnTo>
                <a:arcTo wR="3600" hR="3600" stAng="10800000" swAng="-5400000"/>
                <a:lnTo>
                  <a:pt x="18000" y="262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c600"/>
          </a:solidFill>
          <a:ln cap="sq" w="1260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5003640" y="1525680"/>
            <a:ext cx="3691080" cy="40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. 107/2015 art.1 c. 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l dirigente scolastico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ò individuare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le aree sono scelte dal Collegio e le persone sono individuate dal dirigente), nell’ambi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l’organico dell’autonomia, fino al 10 per cent di docenti che lo coadiuvano in attività di supporto organizzativo e didattico dell’istituzione scolast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l 10% è il limite massi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tratta di docenti che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oadiuvano il dirigente nelle funzioni organizzative particolarmente comples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ssono essere nominati anche in tempi divers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155520" y="1268280"/>
            <a:ext cx="4129200" cy="4969080"/>
          </a:xfrm>
          <a:custGeom>
            <a:avLst/>
            <a:gdLst>
              <a:gd name="textAreaLeft" fmla="*/ 201240 w 4129200"/>
              <a:gd name="textAreaRight" fmla="*/ 3927960 w 4129200"/>
              <a:gd name="textAreaTop" fmla="*/ 201240 h 4969080"/>
              <a:gd name="textAreaBottom" fmla="*/ 4767840 h 4969080"/>
            </a:gdLst>
            <a:ahLst/>
            <a:rect l="textAreaLeft" t="textAreaTop" r="textAreaRight" b="textAreaBottom"/>
            <a:pathLst>
              <a:path w="21600" h="25993">
                <a:moveTo>
                  <a:pt x="3600" y="0"/>
                </a:moveTo>
                <a:arcTo wR="3600" hR="3600" stAng="16200000" swAng="-5400000"/>
                <a:lnTo>
                  <a:pt x="0" y="22393"/>
                </a:lnTo>
                <a:arcTo wR="3600" hR="3600" stAng="10800000" swAng="-5400000"/>
                <a:lnTo>
                  <a:pt x="18000" y="259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c600"/>
          </a:solidFill>
          <a:ln cap="sq" w="1260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268200" y="1263600"/>
            <a:ext cx="400536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CNL 2006-2009 art. 33 c.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er la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alizzazione delle finalità istituzional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ella scuola in regime di autonomi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, la risor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fondamentale è costituita dal patrimon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ofessionale dei docenti, da valorizzare per 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alizzazione e la gestione del piano dell’offer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formativa dell’istituto e per la realizzazione d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ogetti formativi d’intesa con enti ed istituzio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sterni alla scuola. Le risorse utilizzabili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er le funzioni strumentali, a livello di ciascu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stituzione scolastica, sono quelle complessivamente spettanti sulla base dell’applicazione dell’art. 37 del CCNI del 31.08.99 e sono annualmente assegnate dal MP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598320" y="-158760"/>
            <a:ext cx="78868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2060"/>
                </a:solidFill>
                <a:latin typeface="Arial"/>
                <a:ea typeface="Arial"/>
              </a:rPr>
              <a:t>Legge 107/20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395280" y="893880"/>
            <a:ext cx="39798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12640"/>
                <a:tab algn="l" pos="1198440"/>
                <a:tab algn="l" pos="1884240"/>
                <a:tab algn="l" pos="2570040"/>
                <a:tab algn="l" pos="3255840"/>
                <a:tab algn="l" pos="3941640"/>
                <a:tab algn="l" pos="4627440"/>
                <a:tab algn="l" pos="5313240"/>
                <a:tab algn="l" pos="5999040"/>
                <a:tab algn="l" pos="6684840"/>
                <a:tab algn="l" pos="7370640"/>
                <a:tab algn="l" pos="8056440"/>
                <a:tab algn="l" pos="8742240"/>
                <a:tab algn="l" pos="9428040"/>
                <a:tab algn="l" pos="1011384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Educazione fisica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33360" y="2048040"/>
            <a:ext cx="4103640" cy="40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9920" indent="-169920">
              <a:lnSpc>
                <a:spcPct val="90000"/>
              </a:lnSpc>
              <a:spcBef>
                <a:spcPts val="751"/>
              </a:spcBef>
              <a:buClr>
                <a:srgbClr val="4a6300"/>
              </a:buClr>
              <a:buFont typeface="Arial"/>
              <a:buChar char="•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4a6300"/>
                </a:solidFill>
                <a:latin typeface="Calibri"/>
              </a:rPr>
              <a:t>Art. 1 comma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90000"/>
              </a:lnSpc>
              <a:spcBef>
                <a:spcPts val="751"/>
              </a:spcBef>
              <a:buClr>
                <a:srgbClr val="4a6300"/>
              </a:buClr>
              <a:buFont typeface="Arial"/>
              <a:buChar char="•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4a6300"/>
                </a:solidFill>
                <a:latin typeface="Calibri"/>
              </a:rPr>
              <a:t> </a:t>
            </a:r>
            <a:r>
              <a:rPr b="1" lang="it-IT" sz="2000" spc="-1" strike="noStrike">
                <a:solidFill>
                  <a:srgbClr val="4a6300"/>
                </a:solidFill>
                <a:latin typeface="Calibri"/>
              </a:rPr>
              <a:t>lettera g - </a:t>
            </a:r>
            <a:r>
              <a:rPr b="0" lang="it-IT" sz="2000" spc="-1" strike="noStrike">
                <a:solidFill>
                  <a:srgbClr val="4a6300"/>
                </a:solidFill>
                <a:latin typeface="Calibri"/>
              </a:rPr>
              <a:t>potenziamento delle discipline motorie e sviluppo di comportamenti ispirati ad uno stile di vita sano, con particolare  riferimento all’alimentazione , all’educazione fisica e allo sport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832280" y="852480"/>
            <a:ext cx="371952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12640"/>
                <a:tab algn="l" pos="1198440"/>
                <a:tab algn="l" pos="1884240"/>
                <a:tab algn="l" pos="2570040"/>
                <a:tab algn="l" pos="3255840"/>
                <a:tab algn="l" pos="3941640"/>
                <a:tab algn="l" pos="4627440"/>
                <a:tab algn="l" pos="5313240"/>
                <a:tab algn="l" pos="5999040"/>
                <a:tab algn="l" pos="6684840"/>
                <a:tab algn="l" pos="7370640"/>
                <a:tab algn="l" pos="8056440"/>
                <a:tab algn="l" pos="8742240"/>
                <a:tab algn="l" pos="9428040"/>
                <a:tab algn="l" pos="1011384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Cittadinanza attiva e legalit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751280" y="1816200"/>
            <a:ext cx="3888000" cy="36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9920" indent="-169920">
              <a:lnSpc>
                <a:spcPct val="90000"/>
              </a:lnSpc>
              <a:spcBef>
                <a:spcPts val="751"/>
              </a:spcBef>
              <a:buClr>
                <a:srgbClr val="4a6300"/>
              </a:buClr>
              <a:buFont typeface="Arial"/>
              <a:buChar char="•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4a6300"/>
                </a:solidFill>
                <a:latin typeface="Calibri"/>
              </a:rPr>
              <a:t>Art 1 comma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90000"/>
              </a:lnSpc>
              <a:spcBef>
                <a:spcPts val="751"/>
              </a:spcBef>
              <a:buClr>
                <a:srgbClr val="4a6300"/>
              </a:buClr>
              <a:buFont typeface="Arial"/>
              <a:buChar char="•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4a6300"/>
                </a:solidFill>
                <a:latin typeface="Calibri"/>
              </a:rPr>
              <a:t> </a:t>
            </a:r>
            <a:r>
              <a:rPr b="1" lang="it-IT" sz="1600" spc="-1" strike="noStrike">
                <a:solidFill>
                  <a:srgbClr val="4a6300"/>
                </a:solidFill>
                <a:latin typeface="Calibri"/>
              </a:rPr>
              <a:t>lettera d </a:t>
            </a:r>
            <a:r>
              <a:rPr b="0" lang="it-IT" sz="1600" spc="-1" strike="noStrike">
                <a:solidFill>
                  <a:srgbClr val="4a6300"/>
                </a:solidFill>
                <a:latin typeface="Calibri"/>
              </a:rPr>
              <a:t>- sviluppo delle </a:t>
            </a:r>
            <a:r>
              <a:rPr b="1" lang="it-IT" sz="1600" spc="-1" strike="noStrike">
                <a:solidFill>
                  <a:srgbClr val="4a6300"/>
                </a:solidFill>
                <a:latin typeface="Calibri"/>
              </a:rPr>
              <a:t>competenze</a:t>
            </a:r>
            <a:r>
              <a:rPr b="0" lang="it-IT" sz="1600" spc="-1" strike="noStrike">
                <a:solidFill>
                  <a:srgbClr val="4a6300"/>
                </a:solidFill>
                <a:latin typeface="Calibri"/>
              </a:rPr>
              <a:t> in materia di cittadinanza attiva  e democratica    attraverso    la    valorizzazione     dell'educazione interculturale e alla pace, il rispetto delle differenze e il dialogo tra  le  culture,  il  sostegno  dell'assunzione  di  responsabilita‘ nonche' della solidarieta' e della  cura  dei  beni  comuni  e  della consapevolezza  dei  diritti  e  dei  doveri;   potenziamento   delle conoscenze  in  materia  giuridica  ed  economico-finanziaria  e   di educazione all'autoimprenditorialita'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90000"/>
              </a:lnSpc>
              <a:spcBef>
                <a:spcPts val="751"/>
              </a:spcBef>
              <a:buClr>
                <a:srgbClr val="4a6300"/>
              </a:buClr>
              <a:buFont typeface="Arial"/>
              <a:buChar char="•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4a6300"/>
                </a:solidFill>
                <a:latin typeface="Calibri"/>
              </a:rPr>
              <a:t>    </a:t>
            </a:r>
            <a:r>
              <a:rPr b="1" lang="it-IT" sz="1600" spc="-1" strike="noStrike">
                <a:solidFill>
                  <a:srgbClr val="4a6300"/>
                </a:solidFill>
                <a:latin typeface="Calibri"/>
              </a:rPr>
              <a:t>e</a:t>
            </a:r>
            <a:r>
              <a:rPr b="0" lang="it-IT" sz="1600" spc="-1" strike="noStrike">
                <a:solidFill>
                  <a:srgbClr val="4a6300"/>
                </a:solidFill>
                <a:latin typeface="Calibri"/>
              </a:rPr>
              <a:t>)  sviluppo  di   comportamenti   responsabili   ispirati   alla conoscenza  e  al  rispetto  della  legalita',  della  sostenibilita‘ ambientale, dei beni paesaggistici, del patrimonio e delle  attivita‘ culturali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6227640" y="3927600"/>
            <a:ext cx="279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Arial"/>
                <a:ea typeface="Arial"/>
              </a:rPr>
              <a:t>Ottica di rete e di sist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 flipH="1">
            <a:off x="3151080" y="2235240"/>
            <a:ext cx="2633760" cy="26542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2257560" y="3236760"/>
            <a:ext cx="677880" cy="428760"/>
          </a:xfrm>
          <a:prstGeom prst="leftRightArrow">
            <a:avLst>
              <a:gd name="adj1" fmla="val 50000"/>
              <a:gd name="adj2" fmla="val 49985"/>
            </a:avLst>
          </a:prstGeom>
          <a:solidFill>
            <a:srgbClr val="ff9933"/>
          </a:solidFill>
          <a:ln cap="sq" w="1260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5959440" y="3289320"/>
            <a:ext cx="617400" cy="426960"/>
          </a:xfrm>
          <a:prstGeom prst="leftRightArrow">
            <a:avLst>
              <a:gd name="adj1" fmla="val 50000"/>
              <a:gd name="adj2" fmla="val 49995"/>
            </a:avLst>
          </a:prstGeom>
          <a:solidFill>
            <a:srgbClr val="ff9933"/>
          </a:solidFill>
          <a:ln cap="sq" w="1260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4338720" y="1531800"/>
            <a:ext cx="453960" cy="547920"/>
          </a:xfrm>
          <a:prstGeom prst="upDownArrow">
            <a:avLst>
              <a:gd name="adj1" fmla="val 50000"/>
              <a:gd name="adj2" fmla="val 50027"/>
            </a:avLst>
          </a:prstGeom>
          <a:solidFill>
            <a:srgbClr val="ffc000"/>
          </a:solidFill>
          <a:ln cap="sq" w="1260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4230720" y="4767120"/>
            <a:ext cx="473040" cy="613080"/>
          </a:xfrm>
          <a:prstGeom prst="upDownArrow">
            <a:avLst>
              <a:gd name="adj1" fmla="val 50000"/>
              <a:gd name="adj2" fmla="val 50030"/>
            </a:avLst>
          </a:prstGeom>
          <a:solidFill>
            <a:srgbClr val="ffc000"/>
          </a:solidFill>
          <a:ln cap="sq" w="1260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3968640" y="5762520"/>
            <a:ext cx="1035000" cy="941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2"/>
          <a:stretch/>
        </p:blipFill>
        <p:spPr>
          <a:xfrm>
            <a:off x="3441600" y="2730600"/>
            <a:ext cx="2052720" cy="141120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9"/>
          <p:cNvSpPr/>
          <p:nvPr/>
        </p:nvSpPr>
        <p:spPr>
          <a:xfrm>
            <a:off x="6751800" y="2921040"/>
            <a:ext cx="1670040" cy="1076400"/>
          </a:xfrm>
          <a:prstGeom prst="sun">
            <a:avLst>
              <a:gd name="adj" fmla="val 12500"/>
            </a:avLst>
          </a:prstGeom>
          <a:solidFill>
            <a:srgbClr val="ffc000"/>
          </a:solidFill>
          <a:ln cap="sq" w="385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0" descr=""/>
          <p:cNvPicPr/>
          <p:nvPr/>
        </p:nvPicPr>
        <p:blipFill>
          <a:blip r:embed="rId3"/>
          <a:stretch/>
        </p:blipFill>
        <p:spPr>
          <a:xfrm>
            <a:off x="3851280" y="177840"/>
            <a:ext cx="1430280" cy="10015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1"/>
          <p:cNvSpPr/>
          <p:nvPr/>
        </p:nvSpPr>
        <p:spPr>
          <a:xfrm flipV="1" rot="10800000">
            <a:off x="178920" y="295164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Arial"/>
                <a:ea typeface="Arial"/>
              </a:rPr>
              <a:t>Co -progett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542880" y="5403960"/>
            <a:ext cx="204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ZION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3336840" y="527040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it-IT" sz="2800" spc="-1" strike="noStrike">
                <a:solidFill>
                  <a:srgbClr val="002060"/>
                </a:solidFill>
                <a:latin typeface="Arial"/>
                <a:ea typeface="Arial"/>
              </a:rPr>
              <a:t>Avere cur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3564000" y="1090440"/>
            <a:ext cx="21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Arial"/>
              </a:rPr>
              <a:t>Mediazi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cer</dc:creator>
  <dc:description/>
  <dc:language>en-US</dc:language>
  <cp:lastModifiedBy>Administrator</cp:lastModifiedBy>
  <dcterms:modified xsi:type="dcterms:W3CDTF">2018-02-12T10:45:29Z</dcterms:modified>
  <cp:revision>396</cp:revision>
  <dc:subject/>
  <dc:title>PowerPoint Presentation</dc:title>
</cp:coreProperties>
</file>