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1EDD-E1C0-4B48-BE86-978C1C7204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132440" y="9074160"/>
            <a:ext cx="316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EBD78A77-5F3B-413A-A670-D356FBB0AEBF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-39960" bIns="-5472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80E829BF-9BCD-4B13-A24F-2B4E7697D848}" type="slidenum">
              <a:rPr b="0" lang="it-IT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fld id="{1C4A3D2D-6BA1-4539-924C-E3C1D8FC25CA}" type="slidenum">
              <a:rPr b="0" lang="it-IT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78E-0B45-4E33-9597-11AD3BE1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BAA-BACF-43C0-9BF7-16E68823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4FB-A976-4199-B81A-734FB58C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0D6-C211-46DD-B6B7-6BA00CF5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714-A6BD-4BD0-A46F-ED668220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D0F-6CDD-4016-8E6C-1E5C0F50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6D8-3E19-4E0F-837E-FDD63301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4FC-D61E-4866-9616-65760908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6FD-7B30-4477-8860-38859D8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F81-072F-4B49-8E42-7182BA30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789-99CD-4615-B1F5-803BD13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5BF-7669-4196-BCF5-93C09E5B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0249-F92F-4D51-94CF-E32D90FE3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6032520"/>
            <a:ext cx="6858000" cy="824040"/>
          </a:xfrm>
          <a:prstGeom prst="rect">
            <a:avLst/>
          </a:prstGeom>
          <a:solidFill>
            <a:srgbClr val="e95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Simonetta Lingua – Vincenzo Rubino - Annamaria Capra – Sara Coccolo - Daniela Pi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24 Ottobre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Immagine 1" descr=""/>
          <p:cNvPicPr/>
          <p:nvPr/>
        </p:nvPicPr>
        <p:blipFill>
          <a:blip r:embed="rId2"/>
          <a:stretch/>
        </p:blipFill>
        <p:spPr>
          <a:xfrm>
            <a:off x="3774960" y="228600"/>
            <a:ext cx="2473560" cy="549360"/>
          </a:xfrm>
          <a:prstGeom prst="rect">
            <a:avLst/>
          </a:prstGeom>
          <a:ln w="0">
            <a:noFill/>
          </a:ln>
        </p:spPr>
      </p:pic>
      <p:pic>
        <p:nvPicPr>
          <p:cNvPr id="52" name="Immagine 1" descr=""/>
          <p:cNvPicPr/>
          <p:nvPr/>
        </p:nvPicPr>
        <p:blipFill>
          <a:blip r:embed="rId3"/>
          <a:stretch/>
        </p:blipFill>
        <p:spPr>
          <a:xfrm>
            <a:off x="6477120" y="76320"/>
            <a:ext cx="880920" cy="674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7532640" y="228600"/>
            <a:ext cx="1382760" cy="549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2276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8600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124080"/>
            <a:ext cx="8424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Il percor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752480" y="152280"/>
            <a:ext cx="178596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280880"/>
            <a:ext cx="91440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Favorire lo sviluppo di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competenze progettuali multidisciplinari e interdisciplinar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, nei docenti con ruolo di coordinamento all’interno dell’Istituzione scolastica, necessarie per l’elaborazione di policy che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potenzino l’Educazione alla sicurezza stradale, attraverso l’azione trasversale sui temi di salute e dei corretti stili di vit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promuovere l’apprendimento di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metodologie di lavoro per co-progettar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, con gli studenti e le famiglie, la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promozione di comportamenti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stradali 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in linea con la salute e la salvaguardia della vita, incentivando forme di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mobilità alternativ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e di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prevenzione del rischio stradal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52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FINALITA’ DELLA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657440"/>
            <a:ext cx="91440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diffondere, all’interno dell’Istituzione scolastica, (tra docenti, studenti, personale ATA e famiglie)  la consapevolezza che la promozione della salute favorisce il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benessere emotivo, cognitivo e relazionale delle persone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, secondo l’approccio globale delle Scuole che Promuovono Salu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trasmettere e valorizzare un </a:t>
            </a:r>
            <a:r>
              <a:rPr b="1" lang="it-IT" sz="2400" spc="-1" strike="noStrike">
                <a:solidFill>
                  <a:srgbClr val="000000"/>
                </a:solidFill>
                <a:latin typeface="HelveticaNeueLT Std"/>
              </a:rPr>
              <a:t>metodo organizzativo partecipato e dialogico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all’interno del </a:t>
            </a:r>
            <a:r>
              <a:rPr b="0" i="1" lang="it-IT" sz="2400" spc="-1" strike="noStrike">
                <a:solidFill>
                  <a:srgbClr val="000000"/>
                </a:solidFill>
                <a:latin typeface="HelveticaNeueLT Std"/>
              </a:rPr>
              <a:t>setting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</a:rPr>
              <a:t> scuola, che influenzi e permei la didattica e lo stile di insegnamento, la pianificazione del lavoro d’equipe e la gestione delle relazioni interpersonali, in ogni ambiente scolas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52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FINALITA’ DELLA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876320"/>
            <a:ext cx="70102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520" y="3048120"/>
            <a:ext cx="8425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Il profilo dei forma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6032520"/>
            <a:ext cx="4932360" cy="580680"/>
          </a:xfrm>
          <a:prstGeom prst="rect">
            <a:avLst/>
          </a:prstGeom>
          <a:solidFill>
            <a:srgbClr val="e95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Simonetta Lingua – Vincenzo Rub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HelveticaNeueLT Std Lt"/>
              </a:rPr>
              <a:t>24 Ottobre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1" descr=""/>
          <p:cNvPicPr/>
          <p:nvPr/>
        </p:nvPicPr>
        <p:blipFill>
          <a:blip r:embed="rId2"/>
          <a:stretch/>
        </p:blipFill>
        <p:spPr>
          <a:xfrm>
            <a:off x="3774960" y="228600"/>
            <a:ext cx="2473560" cy="549360"/>
          </a:xfrm>
          <a:prstGeom prst="rect">
            <a:avLst/>
          </a:prstGeom>
          <a:ln w="0">
            <a:noFill/>
          </a:ln>
        </p:spPr>
      </p:pic>
      <p:pic>
        <p:nvPicPr>
          <p:cNvPr id="102" name="Immagine 1" descr=""/>
          <p:cNvPicPr/>
          <p:nvPr/>
        </p:nvPicPr>
        <p:blipFill>
          <a:blip r:embed="rId3"/>
          <a:stretch/>
        </p:blipFill>
        <p:spPr>
          <a:xfrm>
            <a:off x="6477120" y="76320"/>
            <a:ext cx="880920" cy="67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7532640" y="228600"/>
            <a:ext cx="1382760" cy="54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227664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048120"/>
            <a:ext cx="8425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Il profilo dei forma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28600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5e27"/>
                </a:solidFill>
                <a:latin typeface="HelveticaNeueLT Std"/>
              </a:rPr>
              <a:t>LA SALUTE IN GIO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048120"/>
            <a:ext cx="8425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HelveticaNeueLT Std"/>
              </a:rPr>
              <a:t>Il profilo dei forma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752480" y="152280"/>
            <a:ext cx="178596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4680" y="3214800"/>
            <a:ext cx="9139320" cy="36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152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DOVE TROVARE I FORMATO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609480"/>
            <a:ext cx="83059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ASL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UST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SCUOLE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	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TERR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Dirigenti scolasti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Referenti di…delle s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Re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Opera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Professioni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76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CARATTERISTICHE FORMATORI PLEN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33520"/>
            <a:ext cx="883944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HelveticaNeueLT Std"/>
              </a:rPr>
              <a:t>CAPACITA’ DI ESPORRE I CONTENUTI DEL PROGETTO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sicurezza e educazione stradale, promozione della salute e attività fis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il ruolo del referente all’interno dell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l’analisi dei bisogni nella scuola e il concetto di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 </a:t>
            </a:r>
            <a:r>
              <a:rPr b="1" lang="it-IT" sz="2000" spc="-1" strike="noStrike">
                <a:solidFill>
                  <a:srgbClr val="808080"/>
                </a:solidFill>
                <a:latin typeface="HelveticaNeueLT Std"/>
              </a:rPr>
              <a:t>la didattica interdiscipli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HelveticaNeueLT Std"/>
              </a:rPr>
              <a:t>UTILIZZO DI SUPPORTI MULTIMED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HelveticaNeueLT Std"/>
              </a:rPr>
              <a:t>CAPACITA’ DI GESTIRE PLENARIA NUME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6095880" cy="2971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4813200"/>
            <a:ext cx="26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HelveticaNeueLT Std"/>
              </a:rPr>
              <a:t>I contenuti da esporre saranno forniti dai coordinatori del progetto sottoforma di documenti, slide e sitogra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CARATTERISTICHE FORMATORI WORKSHOP E 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19320"/>
            <a:ext cx="502920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Gestire e supervisionare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un’attività di gruppo (da 8 a 20 partecipa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Utilizzare le tecniche più note di </a:t>
            </a: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conduzione di gruppo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(tecnica del brainstorming, tecnica snowball e del nominal group, role play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ornire feedback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costruttivi, sia positivi sia negativi, circa il livello meta-comunicativ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Sostenere l’ascolto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dialogico, la comunicazione proattiva e non conflittuale tra i partecip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Incoraggiare e modulare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gli interventi liberi</a:t>
            </a:r>
            <a:r>
              <a:rPr b="0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in plenaria (100 partecipa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Somministrare</a:t>
            </a: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 test di gradimento/autovalu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HelveticaNeueLT Std"/>
                <a:ea typeface="Arial Unicode MS"/>
              </a:rPr>
              <a:t>(Leggere in modo critico i risultati del perco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4120" y="533520"/>
            <a:ext cx="3809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181480" cy="5333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162920" y="2133720"/>
            <a:ext cx="1828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NeueLT Std"/>
              </a:rPr>
              <a:t>i formatori dei workshop DEVONO essere gli stessi a condurre la parte conclusiva della gior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057400"/>
            <a:ext cx="1904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NeueLT Std"/>
              </a:rPr>
              <a:t>i conduttori della parte informativa iniziale in plenaria POSSONO eventualmente essere altri forma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241200" y="15228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DO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523880" y="762120"/>
            <a:ext cx="6504120" cy="40860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HelveticaNeueLT Std"/>
              </a:rPr>
              <a:t>possibili formatori da coinvolge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HelveticaNeueLT Std"/>
              </a:rPr>
              <a:t>criticità che possano influire su fatti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3394080"/>
            <a:ext cx="7596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5857920" cy="5857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707760"/>
            <a:ext cx="281952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avorare nell’ottica di creare connessioni  tra sicurezza strad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sal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educazione fisica 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legal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NeueLT Std"/>
              </a:rPr>
              <a:t>stili di vita attivi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86320" cy="5105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152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5e27"/>
                </a:solidFill>
                <a:latin typeface="HelveticaNeueLT Std"/>
              </a:rPr>
              <a:t>DISEGNO DEL 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mmagine6"/>
          <p:cNvPicPr/>
          <p:nvPr/>
        </p:nvPicPr>
        <p:blipFill>
          <a:blip r:embed="rId1"/>
          <a:stretch/>
        </p:blipFill>
        <p:spPr>
          <a:xfrm>
            <a:off x="34920" y="361800"/>
            <a:ext cx="2610000" cy="30672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326880" y="15228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895480" y="2438280"/>
            <a:ext cx="2059200" cy="1113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GRUPPO DI LAVORO CONGI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562720" y="2362320"/>
            <a:ext cx="270648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inal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obiettiv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organizzazione reg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magine4"/>
          <p:cNvPicPr/>
          <p:nvPr/>
        </p:nvPicPr>
        <p:blipFill>
          <a:blip r:embed="rId1"/>
          <a:stretch/>
        </p:blipFill>
        <p:spPr>
          <a:xfrm>
            <a:off x="0" y="361800"/>
            <a:ext cx="2610000" cy="3067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326880" y="15228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895480" y="2438280"/>
            <a:ext cx="2059200" cy="1113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Gruppo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562720" y="2362320"/>
            <a:ext cx="270648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att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a livello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Immagine3"/>
          <p:cNvPicPr/>
          <p:nvPr/>
        </p:nvPicPr>
        <p:blipFill>
          <a:blip r:embed="rId1"/>
          <a:stretch/>
        </p:blipFill>
        <p:spPr>
          <a:xfrm>
            <a:off x="0" y="361800"/>
            <a:ext cx="2610000" cy="3067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304920" y="7632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895480" y="2438280"/>
            <a:ext cx="2059200" cy="7736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Formazione form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562720" y="2362320"/>
            <a:ext cx="270648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Valorizzazione storie loc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core” uguale per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Immagine3"/>
          <p:cNvPicPr/>
          <p:nvPr/>
        </p:nvPicPr>
        <p:blipFill>
          <a:blip r:embed="rId1"/>
          <a:stretch/>
        </p:blipFill>
        <p:spPr>
          <a:xfrm>
            <a:off x="0" y="290520"/>
            <a:ext cx="2610000" cy="3067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274680" y="4179960"/>
            <a:ext cx="2060640" cy="43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26880" y="15228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895480" y="2438280"/>
            <a:ext cx="2059200" cy="7736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Percorso pil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562720" y="2362320"/>
            <a:ext cx="27064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Test di fattibilità modifiche e adatt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35" descr="Immagine2"/>
          <p:cNvPicPr/>
          <p:nvPr/>
        </p:nvPicPr>
        <p:blipFill>
          <a:blip r:embed="rId1"/>
          <a:stretch/>
        </p:blipFill>
        <p:spPr>
          <a:xfrm>
            <a:off x="0" y="290520"/>
            <a:ext cx="2610000" cy="3067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74680" y="4179960"/>
            <a:ext cx="2060640" cy="43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304920" y="7632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895480" y="2438280"/>
            <a:ext cx="2059200" cy="14533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Percorso Formazione per la figura di ‘Referente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562720" y="2362320"/>
            <a:ext cx="270648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ormazione trasver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Territori coinvol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Competen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895480" y="2438280"/>
            <a:ext cx="2059200" cy="14533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Percorso Formazione per la figura di ‘Referente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362320"/>
            <a:ext cx="270648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ormazione trasver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Territori coinvol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Competen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04920" y="4191120"/>
            <a:ext cx="2060280" cy="43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925720" y="2449440"/>
            <a:ext cx="2059200" cy="14533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Percorso Formazione per la figura di ‘Referente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hutterstock_121335805"/>
          <p:cNvPicPr/>
          <p:nvPr/>
        </p:nvPicPr>
        <p:blipFill>
          <a:blip r:embed="rId1"/>
          <a:stretch/>
        </p:blipFill>
        <p:spPr>
          <a:xfrm>
            <a:off x="0" y="360360"/>
            <a:ext cx="2610000" cy="3068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326880" y="15228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95e27"/>
                </a:solidFill>
                <a:latin typeface="HelveticaNeueLT Std"/>
                <a:ea typeface="Arial Unicode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925720" y="2449440"/>
            <a:ext cx="2059200" cy="14533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HelveticaNeueLT Std"/>
                <a:ea typeface="Arial Unicode MS"/>
              </a:rPr>
              <a:t>Percorso Laboratori di ricerca-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592600" y="2209680"/>
            <a:ext cx="2865600" cy="25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Approfondimento metod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Accompagnamento nei proces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HelveticaNeueLT Std"/>
                <a:ea typeface="Arial Unicode MS"/>
              </a:rPr>
              <a:t>Fattibilità nelle scu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09:14:10Z</dcterms:created>
  <dc:creator>vincenzo rubino</dc:creator>
  <dc:description/>
  <dc:language>en-US</dc:language>
  <cp:lastModifiedBy>vincenzorubino</cp:lastModifiedBy>
  <dcterms:modified xsi:type="dcterms:W3CDTF">2018-01-15T11:11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